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A2E-643D-472D-AF33-FDFC9630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802-8795-44E5-A6A1-CE5BD1B9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0D7-BEB9-4777-9326-BDD73D14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DF3-DE86-4D4B-AA7B-72FBDB86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7EE5-21B0-4D5B-92F0-A14CD429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2101-7317-40D7-AB39-C93ECE0A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DE81-9D41-4827-AB33-CB844452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67BD-4200-458C-8297-C7167B1D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B519-6250-44F3-9A34-807F5220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4EDF-1AAC-4027-B042-D4C1C087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9D85-D320-4F98-B616-CA5DFC13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05C-5BAF-4B15-9C3A-80D203E7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C90E-80BA-4ECB-B1DE-33D9BB10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DF0E-E330-4A14-87FC-6D2DE434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857B-B7A0-4707-AA68-834E2605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9125-FA6E-436E-8CC6-3518F824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7714-7C0F-4885-A9A2-9CF93EC1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AAFBC-D22B-4EF4-9BF9-4D0E9604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8A47-A58A-4591-898D-C0017CF7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CEEC-0E51-4DD3-A1C8-690D04A2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4B91-6640-4B9F-8079-FB8CBF5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E90E-6EB9-4D1A-87D5-382B12D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7B3-2362-47B6-A9A0-4E176C09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D916-4AC4-4121-BA56-B0EBA8D6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9F83-F271-4D62-964E-02B619E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3EA6-4E86-455A-A668-C6606ECC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5FE5-6F4C-4B4A-9A8A-F52B53E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AE52-25B1-42CA-804F-29604A81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966F-8F66-4D88-933D-A0B2D055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C9623-EBAA-4C0F-8837-39E12C5B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7394-4530-43A1-9753-1427E1F4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EA93D-BDEA-4CCC-AE5B-E98B80D5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34C62-4568-4831-BEB8-BCCCB1AB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F77-B42C-4AE4-B207-30948039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A68C-DF0A-4B8B-9F31-6117D4F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2221-1579-4054-99BD-DCDAE242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6B02-7B75-401D-AC53-96552DA1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9CE4-04ED-4E46-B2CC-84F17C8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8FAD9-898B-4E74-829A-7E6992A6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FC8F1-CF76-415C-AF5D-39FEC3C3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9DA8-0016-422E-8E76-8E9A72B8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4859E-FF5A-4748-98EA-A0A8BD6F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287A-6BF0-469D-8D52-E7CA23F6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BD477-6554-4A25-BD16-873A202D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284-6DC4-4190-8CF9-5BA8BD0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91281-A3B4-463B-88AA-EB1563B7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02D29-D652-4D18-925A-2299351B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B2D9F-A3D4-41BF-88AB-A6AD72B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A0CC-6F5C-4580-8D4C-C80DFBB9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2AE8E-1F8E-4D40-8FF5-2497A179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23AD-25B3-4EF6-B7FA-E6BEBCCF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4FBE-D935-4A3A-A239-594F631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23E29-9472-4D72-BBAF-97DCEB6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5086-E6EA-48D1-BEBE-9072E470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6E6A3-012A-4DC4-A5DD-A8D5B200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4C7-2407-4C70-8D38-FB309C21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9833-3DAD-4B8D-8533-F2CA8C0C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51199-A8AE-4783-AD48-EE1FF62C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B77BA-F859-4DE1-AA0E-A64AF488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F525-CF97-47B8-AAFD-38A132DE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A5755-6210-4E95-BB91-B957FFCA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84387-541C-4A4D-AF57-8F5311A6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333D6-B3ED-4E1E-94A9-C21EA919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98AE7-AE60-442A-A0B7-9E373E3B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9924B-773A-4527-8C19-C99281B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CBF66-8721-406A-8BAF-58570ADB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CEA-0E1B-432E-AA51-FFC4EC3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518D9-DC63-4A30-8BFA-2F2F7A05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C8096-5EB9-4543-9769-1C253F21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0454A-A1A6-4340-83DF-78AE2E0D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324A2-56BA-4920-A37B-D891F17B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7694B-85B3-41BF-ADA4-D41F05E2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701A-0F05-4171-B1C6-2944FC4D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5A963-732D-4E28-B233-7FEEA691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2CCD-7861-4F38-A129-2AFCDBAB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7BBF9-C2D6-4CA9-B50D-E1B6E3FC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1418B-D2F7-4ADC-A35E-94CAE02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C52-A3A4-41E7-981E-C4D88B69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2ED2A-A435-4EEB-BD59-3A09787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8206-60CA-43FE-80E5-137147B1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B968D-24FE-4F9F-B55A-8B52497D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8282B-FF9A-4BCC-A68C-79A8F0C7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B6661-ADEC-4356-87B5-E69F7890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4F9FB-CFB4-4ABA-9A3F-4B2BA1CA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31ECD-73F0-4499-864C-FDAF9048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7A9F7-77CC-40CB-9943-1742A416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88BDB-E165-46E5-B37B-489DB7F1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583E7-C93C-4D20-9E84-F1D30BD4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0F6-CB19-4B98-826D-FEA7ED1C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F30D3-488C-4BB8-97EC-96CB60DA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835B0-FC1C-46D7-953F-A438057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7E161-9DED-40BA-AF3D-0D1BD6E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0511B-E574-46E4-AEE6-582AD27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1DC99-FF2D-48A0-8928-F0E7119A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0B351-0A1A-48EB-9300-501A2AAE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C573C-365D-4D14-80AD-621C4EEE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9372-D66F-4576-B8F6-C4ED8E65808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DF4A-FD64-4E28-AA47-73CF6B62B01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26F2-37FE-4B59-A204-DFCC6A0ED4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E65C-E35A-42DE-891A-1E8F378BAA7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0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1925-54D1-4392-B571-8792C624D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A6B1-B337-4B39-AB10-271B7AA69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0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0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5FE4-C299-4B47-A7F2-3FEAD6C55B9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F6AE-1345-474B-AE32-4BF99541139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629400" y="483696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Josh B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5/11/1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Computer #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839880" y="839880"/>
            <a:ext cx="7084800" cy="30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50000">
                      <a:srgbClr val="ffff00">
                        <a:alpha val="45098"/>
                      </a:srgbClr>
                    </a:gs>
                    <a:gs pos="100000">
                      <a:srgbClr val="9900ff"/>
                    </a:gs>
                  </a:gsLst>
                  <a:lin ang="5400000"/>
                </a:gradFill>
                <a:latin typeface="Impact"/>
              </a:rPr>
              <a:t>Gator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50000">
                    <a:srgbClr val="ffff00">
                      <a:alpha val="45098"/>
                    </a:srgbClr>
                  </a:gs>
                  <a:gs pos="100000">
                    <a:srgbClr val="99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2576520" cy="24433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032280" y="3412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nvented By: Robert Cad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0880" y="55627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p H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6/1/11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8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33cc33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20" name="" descr="Cade"/>
          <p:cNvPicPr/>
          <p:nvPr/>
        </p:nvPicPr>
        <p:blipFill>
          <a:blip r:embed="rId1"/>
          <a:srcRect l="0" t="0" r="56819" b="0"/>
          <a:stretch/>
        </p:blipFill>
        <p:spPr>
          <a:xfrm>
            <a:off x="304920" y="0"/>
            <a:ext cx="3733560" cy="382896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Cade"/>
          <p:cNvPicPr/>
          <p:nvPr/>
        </p:nvPicPr>
        <p:blipFill>
          <a:blip r:embed="rId2"/>
          <a:srcRect l="54845" t="0" r="0" b="0"/>
          <a:stretch/>
        </p:blipFill>
        <p:spPr>
          <a:xfrm>
            <a:off x="4724280" y="762120"/>
            <a:ext cx="4038840" cy="609588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33520" y="51814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" y="5029200"/>
            <a:ext cx="3733920" cy="17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emelson MIT, Program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Gatorad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5/16/11,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 Black"/>
                <a:hlinkClick r:id="rId3"/>
              </a:rPr>
              <a:t>http://web.mit.edu/invent/iow/cade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vention/Gatora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torade is a sport drin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atorade was the first sun bowl drin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besides wa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Its really popular in the day of ti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t the name from the Florida Gato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It was in a glass bottle before they put it in the plastic bott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ventor/Robert Ca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He was born in 1927 in Flor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truck a deal for Gatorade in 197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Verdana"/>
              </a:rPr>
              <a:t>The first ever Gatorade down pore on the coach was the Football team the New York Gia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e died in 1996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Verdana"/>
              </a:rPr>
              <a:t>He invented 15 different flavo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49:22Z</dcterms:created>
  <dc:creator>install</dc:creator>
  <dc:description/>
  <dc:language>en-US</dc:language>
  <cp:lastModifiedBy>install</cp:lastModifiedBy>
  <dcterms:modified xsi:type="dcterms:W3CDTF">2011-06-01T17:35:54Z</dcterms:modified>
  <cp:revision>9</cp:revision>
  <dc:subject/>
  <dc:title>Slide 1</dc:title>
</cp:coreProperties>
</file>